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27A-180E-40DC-A01E-6686FEBC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2CD-A118-41D3-8E10-0A888345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AAF-3A02-4B58-B825-02D5CFFD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C03-7278-401D-89C0-87D884E4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311-20EE-4C9C-8BA8-01FF19E4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979F-3379-46E2-A5F0-758A2591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F573-FFF0-493C-828F-CF1E4608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79A4-A127-49C3-8942-31253C86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54CD-FC30-4BE8-8A18-8A342A14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060-E394-4289-A38E-DA556352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645-03B4-42FB-8DFE-A8DD61C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4EA-A650-4AE7-85F2-1890E8A7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2C60-9F7B-46AC-9A33-80AC1DE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866-797C-4329-93BC-434389B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53BD-946F-484B-A2EE-D7A5F0F4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6E85-E5AE-4826-A011-9432D0CF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479E-58C6-4BD6-8CE0-A16D05FF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9C74-31C1-480C-8974-E7B8E3BB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6EC3-1C0C-4DC3-90C2-79AED601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A73C-C95C-4747-A112-7CD8979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9035-26E2-4C89-B03E-C85FFABF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FC8D-62A6-42BB-B2CF-C20AC629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291-F4AF-46C1-AB6A-17FFD295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E9A8-10AD-43EE-8CF6-8084A642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6717-7DD9-44A2-B90B-59D9EE5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10E6-628A-484E-B94F-4DC2521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16F5-F90C-4DC1-B2D7-8B6DBAAB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1544-7594-4D59-8549-B92B7E8D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D681-B229-4C99-86BF-2BBF16E8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A9B6-97AB-4D5C-BE2B-0A90ACAC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909D-CA8C-4265-9ACB-A54EED44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06D7D-890F-484F-B776-63A079C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CBD1-251A-48E0-8586-9BA8CFA9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EC2-EA28-44F7-91B6-20A87044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6882-5144-4500-BECC-0D3E5040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14DC-07A3-47DC-B5E9-9AF6C6BF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0AEE-9F3E-42C9-9093-DDFA024F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278C-6366-4858-8AD6-393722F7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C812-C36C-4217-A6D7-CC88DBC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748D-C717-4AC3-AE3B-E7BF08F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32ED-6D00-468E-A5F3-13E69DC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5138-939F-4120-9094-E4A2DBD3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062B-4823-4D4E-9FD8-D283942B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541C-9BB9-428C-922D-94EF9B93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4C5-8B5E-4A2B-9614-EC6B099D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08A90-61DD-4FF1-978F-2A3F9218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DC53C-34E6-4FE5-B969-AEB2BB7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C88F-53BF-4798-A3D7-43B2F3E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F040-63B8-49D9-9526-439A0C19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963F-AE43-4789-BECC-28B0072F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56C7-E740-42D1-B8D1-9DCD74D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696ED-1BA7-4587-98AF-CAC4E94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BD3A0-DF91-415E-8274-DE280FE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8827-82AE-415F-B468-83ABD9CF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50AA-E6F7-4978-80EB-84488EA3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6E2-8270-48FD-9FCC-DAF310F9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C384-D7B4-4FD3-A0C0-9137C1D3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56DB-59BE-4796-9CF2-80A0F08C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3A303-4CDF-4A21-AAE9-9561FA93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9F99-0472-48B5-BAD9-D98FFDBB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77269-FA27-4B6B-93EA-30D5978C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F3326-4F6B-412F-ACFF-3813577A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92B4-D936-4F8A-A76E-7CDEA3CD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93E07-BFCD-4712-849B-7D7EE52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CACE-5FC7-4547-9B45-1D62FF9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0F5C6-62CA-451C-872D-DBBD84E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C8F-4484-4738-9E2F-231575CB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BDB15-0DC0-4F50-AB54-6E0D280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D666B-92B3-4554-9CAC-FBE62E0B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8132-8FCC-4473-AF12-BD28199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8E10-8800-4422-9657-6BC5137E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722CB-03A9-401E-99C1-9170DBA6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B16A-0F56-45E8-B9F7-D6A1656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E970-DBA4-4EB8-B075-8A04FD4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530A5-5F2D-4163-B4DD-3BA15EF9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D15C3-42C2-4AFF-A9B6-F84A0690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B042D-49A2-4FEC-B0D8-300D9A5A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02E-3A2B-4908-B1AC-5616C1F7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7AEF3-28E7-4507-A7F3-30B9513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7D3C-D3AC-474D-ACEE-56A10DD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68EAA-DCFB-4B9A-92D1-A8C6E39B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B068-D001-46CA-A05A-64E29444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F396-6FDA-44EE-A1CE-5CFA9677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FEDC-FD86-4195-9944-1F326744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57299-A1BC-473E-A184-E2C3693D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29FFB-74C8-44A1-9A6A-5D81E5CC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1F8E-71A4-4F47-A770-FF914F04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82E5-962D-48B0-BAA0-08817B6F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4EE-BF4F-49D8-AE76-A9FBACC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4044E-EB7B-4067-840F-AFBDD6F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94A1-B766-414C-9B13-1F71065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DFD76-3B56-49DE-B6C2-AC10E10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55C7-6C06-48FA-B5E2-A8CF1E6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0872F-3C93-4803-AF2A-E089CDB8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9D8F-1512-4B51-BB38-EDED40F8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BC02-4DBF-48D0-B6B9-C0B7430A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2981-74EA-4640-B1CE-EE1012B3CE7A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0F1F-068C-4737-8A82-6FA2859DC15D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10F-7B33-4DDD-AEFE-3A6CB2AB1C8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945-D844-427A-B337-1AF47DDFCB08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284A-07FA-49E3-80BE-6B6135D21517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5722-2A9B-4815-BAAA-C2CA74405222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6A0D-8F64-47A2-84ED-09A3B9D75BFD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A74E-2A0B-43E5-9DD9-326ED7E0975B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7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8089920" cy="14875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64646"/>
                </a:solidFill>
                <a:latin typeface="Lucida Sans Unicode"/>
              </a:rPr>
              <a:t>HONORARIOS PROFESION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64646"/>
                </a:solidFill>
                <a:latin typeface="Lucida Sans Unicode"/>
              </a:rPr>
              <a:t>Sebastián Sánchez Cannavó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sinuación con copia certificada o testimon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Auto regulator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Sentencia que impone cos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fectos de la cosa juzgada extraconcurs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Adecuación al proceso concurs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Morigeración y limitación temporal de intere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Limitación responsabilidad  por costas y 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prorrate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58760" y="-6480"/>
            <a:ext cx="8534520" cy="1457280"/>
          </a:xfrm>
          <a:prstGeom prst="rect">
            <a:avLst/>
          </a:prstGeom>
          <a:ln w="0">
            <a:noFill/>
          </a:ln>
        </p:spPr>
      </p:pic>
      <p:sp>
        <p:nvSpPr>
          <p:cNvPr id="409" name="Line 4"/>
          <p:cNvSpPr/>
          <p:nvPr/>
        </p:nvSpPr>
        <p:spPr>
          <a:xfrm>
            <a:off x="1692360" y="191628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1547640" y="1916280"/>
            <a:ext cx="720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042920" y="38606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16000" y="4005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Postergación remisión juicio individ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Verificación tempestiva por monto regula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Sujeto a reajuste de acuerdo al resultado  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de las apelacion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58760" y="-6480"/>
            <a:ext cx="8534520" cy="1457280"/>
          </a:xfrm>
          <a:prstGeom prst="rect">
            <a:avLst/>
          </a:prstGeom>
          <a:ln w="0">
            <a:noFill/>
          </a:ln>
        </p:spPr>
      </p:pic>
      <p:sp>
        <p:nvSpPr>
          <p:cNvPr id="415" name="Line 5"/>
          <p:cNvSpPr/>
          <p:nvPr/>
        </p:nvSpPr>
        <p:spPr>
          <a:xfrm>
            <a:off x="1403280" y="314172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Juicio no sujeto a fuero de atracción que continúa trámite hasta sentenc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Pedido regulación anticipada por tareas hasta la fecha de apertura concurs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Verificación tempesti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Regulación al momento de la sentencia definiti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Discriminación tare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Verificación tardí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3.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Pedido verificación tempestiva sin regula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Mínimos arancelari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Sujeta a reajus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Line 4"/>
          <p:cNvSpPr/>
          <p:nvPr/>
        </p:nvSpPr>
        <p:spPr>
          <a:xfrm>
            <a:off x="1835280" y="4076640"/>
            <a:ext cx="43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"/>
          <p:cNvSpPr/>
          <p:nvPr/>
        </p:nvSpPr>
        <p:spPr>
          <a:xfrm>
            <a:off x="1835280" y="3213000"/>
            <a:ext cx="57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1835280" y="4941720"/>
            <a:ext cx="43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1835280" y="4941720"/>
            <a:ext cx="43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1835280" y="407664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Juicio atraído y suspendi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Regula juez del concurso en juicio individu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Verifica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2. Pedido de fijación de estipendios en el proceso de verificación tempesti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Estimación monto por el 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Juez regula en auto verificatorio</a:t>
            </a:r>
            <a:r>
              <a:rPr b="1" lang="es-A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Line 4"/>
          <p:cNvSpPr/>
          <p:nvPr/>
        </p:nvSpPr>
        <p:spPr>
          <a:xfrm>
            <a:off x="2627280" y="2852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2268360" y="4076640"/>
            <a:ext cx="933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268360" y="4365720"/>
            <a:ext cx="936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Anterior a la presentación en concurso o a la declaración de quiebr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verifica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osterior a la presentación en concurso o declaracion de quiebr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obligación no sujeta al proces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58760" y="-6480"/>
            <a:ext cx="8534520" cy="1457280"/>
          </a:xfrm>
          <a:prstGeom prst="rect">
            <a:avLst/>
          </a:prstGeom>
          <a:ln w="0">
            <a:noFill/>
          </a:ln>
        </p:spPr>
      </p:pic>
      <p:sp>
        <p:nvSpPr>
          <p:cNvPr id="430" name="Line 4"/>
          <p:cNvSpPr/>
          <p:nvPr/>
        </p:nvSpPr>
        <p:spPr>
          <a:xfrm>
            <a:off x="3419640" y="292428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2484360" y="4941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oncurso preven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A cargo del deudor (salvo                    letrado síndic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Quiebra liquid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Gastos del concurso (salvo letrado síndico)</a:t>
            </a:r>
            <a:r>
              <a:rPr b="1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44440" y="-281160"/>
            <a:ext cx="8534520" cy="1457640"/>
          </a:xfrm>
          <a:prstGeom prst="rect">
            <a:avLst/>
          </a:prstGeom>
          <a:ln w="0">
            <a:noFill/>
          </a:ln>
        </p:spPr>
      </p:pic>
      <p:sp>
        <p:nvSpPr>
          <p:cNvPr id="434" name="Line 4"/>
          <p:cNvSpPr/>
          <p:nvPr/>
        </p:nvSpPr>
        <p:spPr>
          <a:xfrm>
            <a:off x="2484360" y="1916280"/>
            <a:ext cx="20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"/>
          <p:cNvSpPr/>
          <p:nvPr/>
        </p:nvSpPr>
        <p:spPr>
          <a:xfrm>
            <a:off x="1692360" y="4076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obro al incidentista in bon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obro al concursado o falli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158760" y="-6480"/>
            <a:ext cx="85345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Muchas gracias por su aten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81160" y="-6480"/>
            <a:ext cx="8339040" cy="2737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1547640" y="2781360"/>
            <a:ext cx="25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395280" y="1844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71640" y="29973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1.GENERADOS EN PROCESOS ANT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900000" y="378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2. GENERADOS LUEGO O COMO CONSECUENCIA DEL CON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 flipH="1">
            <a:off x="2626920" y="443700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>
            <a:off x="4211640" y="44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>
            <a:off x="4427640" y="4437000"/>
            <a:ext cx="143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50920" y="49417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JUICIOS QUE CONTINÚAN SU TRÁ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3492360" y="5229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PROCESO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7"/>
          <p:cNvSpPr/>
          <p:nvPr/>
        </p:nvSpPr>
        <p:spPr>
          <a:xfrm>
            <a:off x="5867280" y="501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INCI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95280" y="2492280"/>
            <a:ext cx="8748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Accesoriedad al crédito discutido en el juic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echa del auto regulatorio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 (“Título”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omento en el cual se llevaron a cabo los trabajos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  (“Causa”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7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Francisco Costa e Hijos Agrop.” (12/9/96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Amigo c/ Oviedo (10/5/0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Regulación de honorari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carácter declarativo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no constitutivo del derech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Derecho adquirido respecto de los trabajos profesional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oportunidad en que se los realiz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más allá de fecha de la regula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No procede aplicar nueva ley arancelaria a trabajos profesionales realizados  con anterioridad a su vigenc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Line 4"/>
          <p:cNvSpPr/>
          <p:nvPr/>
        </p:nvSpPr>
        <p:spPr>
          <a:xfrm>
            <a:off x="1908000" y="1916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908000" y="191628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1908000" y="371628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1835280" y="3645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Carácter concursal del crédito por honorari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desarrollo de las tare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antes de la presentación en concurso o 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declaración quieb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No es releva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concursalidad del crédito al que acced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fecha de la  regula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Line 4"/>
          <p:cNvSpPr/>
          <p:nvPr/>
        </p:nvSpPr>
        <p:spPr>
          <a:xfrm>
            <a:off x="1763640" y="184464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1763640" y="177336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1835280" y="3573360"/>
            <a:ext cx="43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1908000" y="364500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I. </a:t>
            </a: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rocesos individuales no concurs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II. </a:t>
            </a: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roceso concursal princip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III. </a:t>
            </a: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cidentes concurs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nculación con proceso donde se generar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determinación del oblig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Autonomía e independencia con relación al crédito discutido en el juic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Lucida Sans Unicode"/>
              </a:rPr>
              <a:t>desvinculación respecto de su suer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231840" y="-133200"/>
            <a:ext cx="8461440" cy="1858680"/>
          </a:xfrm>
          <a:prstGeom prst="rect">
            <a:avLst/>
          </a:prstGeom>
          <a:ln w="0">
            <a:noFill/>
          </a:ln>
        </p:spPr>
      </p:pic>
      <p:sp>
        <p:nvSpPr>
          <p:cNvPr id="402" name="Line 4"/>
          <p:cNvSpPr/>
          <p:nvPr/>
        </p:nvSpPr>
        <p:spPr>
          <a:xfrm>
            <a:off x="2340000" y="2924280"/>
            <a:ext cx="792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600280" y="78026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1547640" y="501336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68360" y="235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I. Honorarios regulados y fir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II. Honorarios regulados pero apelad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III. Honorarios no regulados (judiciales o extrajudicial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-81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2:33:46Z</dcterms:created>
  <dc:creator>Sebastián</dc:creator>
  <dc:description/>
  <dc:language>en-US</dc:language>
  <cp:lastModifiedBy>PC</cp:lastModifiedBy>
  <dcterms:modified xsi:type="dcterms:W3CDTF">2012-10-22T23:07:39Z</dcterms:modified>
  <cp:revision>4</cp:revision>
  <dc:subject/>
  <dc:title>Verificación de Créditos</dc:title>
</cp:coreProperties>
</file>